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DA57-DEA0-41D3-AB5A-639A46B64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463C-5ABF-4026-A9B1-74E77861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BCD6-CD75-44C4-B2BE-D7AEF55E7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9472-B5B3-4B01-AD5C-0ACB90F8A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6217-0777-4DEE-A832-C90A9A63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AA36-2F6F-47EC-83BD-DE91A6ED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3965-5DAF-43AF-9A24-A1EBEA4F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E53A-865D-4108-9C00-62D68765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671C-2024-4FF2-8F9D-036C55C6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6982-A15F-4C99-8686-611F7DDD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272A-22E6-48DC-B3DC-9218F375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2C35-821B-4AB1-8CFC-4CB79616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59D4-C154-470E-9951-C43F9B523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4320" y="587520"/>
            <a:ext cx="8775360" cy="56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4320" y="587520"/>
            <a:ext cx="8775360" cy="56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4320" y="587520"/>
            <a:ext cx="8775360" cy="56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4320" y="587520"/>
            <a:ext cx="8775360" cy="56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4320" y="587520"/>
            <a:ext cx="8775360" cy="56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4320" y="587520"/>
            <a:ext cx="8775360" cy="56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4320" y="587520"/>
            <a:ext cx="8775360" cy="56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17:49:26Z</dcterms:created>
  <dc:creator>EC Computing Customer</dc:creator>
  <dc:description/>
  <dc:language>en-US</dc:language>
  <cp:lastModifiedBy>mpetrow</cp:lastModifiedBy>
  <dcterms:modified xsi:type="dcterms:W3CDTF">2009-06-30T15:46:57Z</dcterms:modified>
  <cp:revision>17</cp:revision>
  <dc:subject/>
  <dc:title>Slide 1</dc:title>
</cp:coreProperties>
</file>