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209-3749-47E3-BDE5-8A652B45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638-1B2C-4D3E-AD3E-CA905C08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F2B-A700-4B07-81CC-396700AC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BA7-19E8-4681-99E4-40A3512B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49F-323B-4E27-A659-34FE971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B97-B62B-418D-A425-0AAA4EF4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4CA-AED3-4A16-95D7-7A4F95C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BC0-C0ED-4EE1-B941-CD947051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5C3-68A4-4AD5-9303-E5FE705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6C5-1E64-48F5-9C58-2956AD9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EF0-CD24-4DEF-AE2F-33264B2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F78-134D-48C3-A5ED-7E93E65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6FDB-7714-4995-9F0D-40E4DDE16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81679.cgm"/>
          <p:cNvPicPr/>
          <p:nvPr/>
        </p:nvPicPr>
        <p:blipFill>
          <a:blip r:embed="rId1"/>
          <a:stretch/>
        </p:blipFill>
        <p:spPr>
          <a:xfrm>
            <a:off x="477720" y="0"/>
            <a:ext cx="818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8:10:12Z</dcterms:created>
  <dc:creator>RJKNAPIK</dc:creator>
  <dc:description/>
  <dc:language>en-US</dc:language>
  <cp:lastModifiedBy>gcmyers</cp:lastModifiedBy>
  <dcterms:modified xsi:type="dcterms:W3CDTF">2010-03-05T17:03:58Z</dcterms:modified>
  <cp:revision>1</cp:revision>
  <dc:subject/>
  <dc:title>Slide 1</dc:title>
</cp:coreProperties>
</file>